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3B0-DD53-4FD8-9291-16BC3B00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C1A-D11E-4625-8D11-AF8EA3E7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3F6-DD57-4E67-8353-0A0C8EFB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F65-21D5-403B-8E64-12CDA0E5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9265-8427-4FA8-9207-DFB6E667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B42-1BD7-429A-8E02-C063E45B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B149-F236-429C-869E-DFB91EF1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CA88-C468-4D81-8013-D48683DA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BE4-E97F-44E5-865B-85DBB2E1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FEB5-15F3-4582-9E3C-9E39668D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205-318E-4FB8-8996-0C4BA0D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818-B0FB-4E87-A117-E3D0F36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037C-BB3A-41A3-909D-465FE15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DD1-60DE-4C6C-988C-2964803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EBA4-0533-46F2-A338-C6F695B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67D-860C-4264-9E37-2786BAC5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83C-533A-4C4E-BFCE-0D104E4B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939-B736-40D2-87A4-ED5FD59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E6D-C0EF-41A1-ACD9-1DF3BE59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E77-F2C3-4EAA-BDC9-7DD0638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42B-2E11-4A72-B5D9-D602136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81A-B68C-439F-BEDC-14D89EB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885-E035-42FF-9894-0A95B4E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18F-D207-4024-AF7F-4F61CD3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6F3-391B-4199-B46D-9441C1A698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A7D-91BD-495D-893D-6D2643BF6C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Aktivna imunizacija </a:t>
            </a:r>
            <a:r>
              <a:rPr b="1" lang="sr-Latn-CS" sz="5400" spc="-1" strike="noStrike">
                <a:solidFill>
                  <a:srgbClr val="ccecff"/>
                </a:solidFill>
                <a:latin typeface="Times New Roman"/>
              </a:rPr>
              <a:t>lica na posebnom riziku od bolesti (</a:t>
            </a: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po kliničkim indikacijama</a:t>
            </a:r>
            <a:r>
              <a:rPr b="1" lang="sr-Latn-CS" sz="5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oholiz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lantacije organa i tk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og obolje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starijih od 65 godina života u kolektivnom smešta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e sprovodi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 kod dece starije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ve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davanjem jedne doze vakcin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ri do pet godi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kon vakcina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saharidna vakcina daje s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amuskular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li supkutano u dozi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meningokoknog meningiti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meningokoknog meningitisa sprovodi s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olisaharidn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kcinom po kliničkim indikacijama kod dece starije od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ve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tomska i funkcionalna asplenija (splenektomija, srpasta anemija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unodeficijencija komplementa (C5-C9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se sprovodi davanjem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jedne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lisaharidne vakcine protiv meningokoknog meningitisa odmah po utvrđivanju indikaci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se sprovodi u razmaku ne kraćem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ri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d izvršene vakcinacije u slučaju da indikacije i dalje posto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polisaharidnom vakcinom može se sprovoditi i ukoliko je osoba prethodno vakcinisana konjugovanom vakcino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 protiv meningokoknog meningitisa daje se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uta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 dozi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velikog kašl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dece od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va meseca do pet god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život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elularnom vakcinom protiv velikog kašlja (DtaP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na osnovu kliničkih indika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liničke indikacije za davanje DtaP vakcine jes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a (rektalna)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i veća od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u roku 48 časova od prethodne doze DTP vakcine, a koja nije u vezi sa drugim mogućim uzrokom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ran, neutešan plač koji traje tri sata ili duže, a javlja se u roku 48 časova od prethodne doze DTP vakcin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aps ili stanje slično šoku (hipotonične-hiposenzitivne epizode) u roku 48 časova od prethodne doze D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vakci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vulzije bilo febrilne ili afebrilne koje se javljaju unutar tri dana od prethodne doze DT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iničku indikaciju za davanje DtaP vakcine iz stava 2. ovog člana utvrđuje Stručni tim iz člana 10. ovog pravilnika nakon razmatranja prijave neželjene reakcije na prethodnu dozu DT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utnika u međunarodnom saobraćaj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nici u međunarodnom saobraćaju vakcinišu se ako putuju u zemlje koje zahtevaju određenu vakcinu i prema epidemiološkim indikacijama, u skladu sa Međunarodnim zdravstvenim pravilnikom protiv sledećih bole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žute groznic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ingokoknog meningiti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bušnog tifu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e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ter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ih zaraznih bolesti (akutnog virusnog hepatitisa B, besnilo, tetanus, malih boginja i dr.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Vakcinacija protiv žute grozn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iva atenuisana vakc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jednokratno, 10 dana pre polaska na p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ebne kontraindikacije: alergija na jaja, perje i pileće mes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vakcinalne reakcije između 5 i 7. dana(temperaura, glavobolj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u vakcinu daju posebno ovlašene ustanove i izdaju međunarodni sertifik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Vakcinacija protiv kolere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a od najstarijih vakc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as se koristi klasična, mrtva vakcina koja u 1ml sadrži 8 milijardi uzročnika tipa Inaba, Ogawa i ElT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 dve doze u razmaku koji nije kraći od 8 dana niti duži od 28 da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ktivna imunizacija protiv grip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protiv gripa sprovodi se inaktivisanom vakcinom protiv gripa spravljenom od celih virusa ili SPLIT vakcinom koja sadrži delove virusa odgovorne za imunit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ma kliničkim indikacija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vakcinacija se sprovodi kod svih lica starijih od šest meseci sa hroničnim poremećajima pl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g i kardiovaskularnog sistema i sa metaboličkim poremećajima (uključujući šećernu bolest), bubrežnom disfunkcijom, hemoglobinopatijom, imunosupresijom i d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ma epidemiološkim indikacijama vakcinacija se sprovod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meštenih u gerontološkim centrima i kod lica zaposlenih u gerontološkim centri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dece, omladine i starih lica smeštenih u ustanovama socijalne zaštite i kod lica zaposlenih u tim ustanova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objektima u kojima se obavlja zdravstvena delatnost, a naročito u odeljenjima sa povećanim rizikom, stacionarima za hronično obolela lica i d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javnim službama posebno eksponiranih infekciji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tarijih od 65 godina živo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zaštitu dece uzrasta od navršenih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šest meseci do navršenih osam godina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risti se isključivo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LIT vakc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koja se prvi put vakcinišu dobijaj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u razmaku od 30 dana, a narednih godina samo po jednu dozu vakc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od navršenih šest meseci do navršene tri godine života dobijaju 0,25 ml SPLIT vakcine, a deca uzrasta od navršene tri do navršenih osam godina života dobijaju dozu za odrasle (0,5 m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 lica starija od osam godina života vakcinišu se samo jednom dozom celovirusne ili SPLIT vakcine (0,5 m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 se daje intramuskularno ili duboko supkutano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provodi se HiB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om, prema kliničkim indikacijama, kod dece starije od dve godine života bez obzira na prethodni vakcionalni status, u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latacije organa i tkiv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enektomije i 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ioterapije i terapije zračenjem kod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se sprovodi jednom dozom vakcin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eriodu 14 i više dana pre planirane transplantacije, elektivne splenktomije, terapije zračenjem ili hemioterapije kod malignih tumor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asimptomatske HIV infek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se sprovodi sa dve doze vakcine u razmaku ne kraćem od mesec dana u sledećim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le izvršene transplantacije organa i tkiva u toku imunosupresivne terapije, a prema savetu imunolo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 slezina nije u funkciji ili 14 i više dana posle izvršene splenekto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toku hemioterapije ili terapije zračenjem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streptokokusom pneumonije (pneumokoko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streptokokusom pneumonije (pneumokokom) vrši s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olisaharidnom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 kliničkim indikacijama, u sledećim slučajevi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ske ili funkcionalne asplen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e kardiovaskularne i pluć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ećer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jetr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bub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frotskog sindro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8:21Z</dcterms:created>
  <dc:creator>Intel</dc:creator>
  <dc:description/>
  <dc:language>en-US</dc:language>
  <cp:lastModifiedBy>Natasa Rancic</cp:lastModifiedBy>
  <dcterms:modified xsi:type="dcterms:W3CDTF">2017-01-10T07:46:49Z</dcterms:modified>
  <cp:revision>9</cp:revision>
  <dc:subject/>
  <dc:title>Aktivna imunizacija po kliničkim indikacij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