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1FE-0E08-48B6-8BD4-6FCD1FAC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621-EB36-42A4-B367-DDCAFF5C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246E-119D-4E54-9C16-A379CFE3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1B7-AF35-4757-A8FD-C95BB04D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7DE3-B2BD-4DFE-AD5F-5FBDCEBA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5544-75E8-4565-A7FB-A53DFFEE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3806-5EA9-485C-8212-ECFD2EA0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3336-510B-4DBF-92BB-7A02034A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F408-D9B4-49CF-8DD1-6D41C60E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EDE9-7F17-4672-91DD-8585B541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E2D6-22D3-44C6-A541-92541061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8453-FEB3-4976-AAA3-5FC84DC6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E4A1-CE78-4472-95FE-957C592F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DC77-B208-4EE1-B7F7-71FC2A3D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1E09-9142-4DC5-A6E6-9037F99E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6F4B-59D5-4A02-80AF-84E4E03C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AD12-12B7-4B76-B0F3-8FE4694A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13B-E03A-4462-AE99-560F7B51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950B-EF01-4161-9E75-75C2B88D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AB9C-8657-43A7-8AB2-2E385119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FC4F-A616-4803-B997-A1C47248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AA1-0F15-4CF2-B46F-6DABB54E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5A0-160C-4DB0-9383-171BF266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E477-393F-4D3F-9BD2-05C933F5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324D-D0AF-412F-92BF-2E80E015126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FB71-CDD0-451A-BF59-5ABD48D565C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Times New Roman"/>
              </a:rPr>
              <a:t>ČUVANJE I TRANSPORT VAKCINA "HLADNI LANAC"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ransport i čuvanje vakcina pod određenim temperaturnim uslovima od proizvođača preko distributera do krajnjeg korisnika zove se hladni lana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z 1997. (Odluka o imunizacijama, Službeni list SRJ 27/97) odredbe o hladnom lanc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ežim hladnog lanca strožiji je kada su u pitanju žive vakcine, naročito od osetljivih virusa kao što su morbili, parotitis i rubeola, kao i za poliovirusnu vakcin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Blaži kriterijumi za BCG vakcinu, mrtve vakcine i toksoid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Jedina stabilna vakcina na višim temperaturama vakcina protiv akutnog hepatitisa B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e vakcine treba da se čuvaju u specijalnim frižiderima, ali ako ih nema, onda u običnim frižiderima za domaćinstvo, ali je obavezno prisustvo termomet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emperatura mora da bude između 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 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Hladni lanac se kontroliše primenom određenih indikatora promene temperature tzv. monitorim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aka zdravstvena ustanova mora da koristi rashladne uređaje za čuvanje i transport vakcina, a u tim uređajima moraju da postoje indikatori temperature (termometri ili monitor-kartice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onitor-kartica je karton u kome se upisuju podaci o vakcini (datum, vrsta i serija, lokacija), počevši od proizvođača, preko distributera do krajnjeg korisnika(onog ko primenjuje vakcinu), tj. na svim karikama hladnog lan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toji i jedna specijalna traka sa otvorima obeleženim slovima A, B, C i D. Ova traka se aktivira kada vakcina počinje put od proizvođača koji je aktivira, ka korisniku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a kartica je neprekidno uz vakcinu, do utroška poslednje doze. Hemijska traka je osteljiva na temperaturu iznad 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stepeni i počinje da dobija plavu boju, od mesta gde je aktivirana, odnosno od otvora 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ema širenju plave boje može se zaljkučiti koliko dugo je vakcina transportovana i kojoj temeraturi je bila izložen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tvori A,B,C odnose se na temperature iznad 12° C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tvor D je specifičan i pokazuje da li je vakcina bila čak i kratkotrajno (najmanje 2 sata) izložena temperaturi višoj od 34° 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vi podaci na monitor kartici o kritičnoj temperaturi u toku transporta odnose se samo na više nedozvoljene temperatu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o se radi o nižim temeperaturama ispod 0°C, onda se to kontroliše specijalnim dodatkom tzv. «friz voč» monitorom, jednom cevčicom sa rezervoarom napunjenim crvenim mastilom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vaj «friz voč» se nalepi na monitor karticu, a koristi se u toku zimskih meseci kada se očekuju niske temperatu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ehanizam ove kontrole je takav da cevčica puca na temperaturi ispod minus 4°C u toku jednog sata i oboji crveno ograničeno polje na monitor kartic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va kontrola temperature niže od 0°C bitna je zbog opasnosti od zamrzavanja mrtvih i toksoidnih vakcina u tečnom stanju, koje ne smeju da se zamrzavaj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o je «friz voč» proliven, odnosno, ako je neka od ovih vakcina bila zamrznuta, ona nije više za upotreb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9:49:53Z</dcterms:created>
  <dc:creator>Intel</dc:creator>
  <dc:description/>
  <dc:language>en-US</dc:language>
  <cp:lastModifiedBy>Intel</cp:lastModifiedBy>
  <dcterms:modified xsi:type="dcterms:W3CDTF">2009-11-10T10:04:41Z</dcterms:modified>
  <cp:revision>4</cp:revision>
  <dc:subject/>
  <dc:title>ČUVANJE I TRANSPORT VAKCINA "HLADNI LANAC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