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1C8-4CE7-4AD4-B8EF-759E4926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44C-49BB-4E37-A398-56D5726F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EB7-783F-4D95-AE03-8075E305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BC5-CE8F-4332-8F2E-C2FB9A1B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18702-C9D2-443C-A438-F5A12DF9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3A81C-D5A4-4C11-9CC9-444689FE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2342C-EB0A-4B93-981C-3571DE73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7FF20-4432-4F2F-B5EB-6C7CDEAC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6218B-ABAF-4C55-9D32-E44F32FC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8CCCC-C013-40C1-BEA1-4AB726CE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86B26-C98A-45FE-B472-D7B0E45F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0B6-602B-4B79-B2D2-13A68B46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67258-346D-465F-97A2-F0871CCD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FED36-99EE-40C1-889E-7153143A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8BC2C-7B5B-4379-8F9C-E2E42EAA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D1CBB-47D4-48D6-BEE0-03BC5B82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149C8-3D1F-4C4F-A4BF-348A6BF2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77B-AF7D-4C56-A1C2-F6CBF25C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5B1-CCE0-401D-BA40-D3ED9B1E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2A2E-B87F-4B72-AFBC-CB26F89A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6C1-978C-4A2F-939A-6479CF6B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BF7-3B44-46E0-9E3D-3F15F14C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6B2-9F3E-42EA-A0BC-E4C9373E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6B2-451A-48EA-A9C9-3FDFC9AB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7A13-2433-447B-A760-C9A04C8BF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ED5C-25AB-4E2A-B00B-17064B927B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bavezna imunizacija lica eksponiranih određenim zaraznim bolestima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ekspoziciona vakcinacija protiv besnila sprovodi se kod lica koja su profesionalno izložena infekciji virusom besnila, i to: laboratorijski radnici koji su neposredno izloženi virusu besnila, veterinari, veterinarski tehničari, veterinarski higijeničari, zoohigijeničari, lovočuvari, šumari i preparatori životinja, krznari (lica koja odvajaju krzno sa leševa životinja i pripremaju ga za dalju upotrebu) i lica koja profesionalno dolaze u kontakt sa slepim mišev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ekspoziciona vakcinacija protiv besnila sprovodi se davanjem tri pojedinačne doze vakcine protiv besnila u deltoidni mišić, naizmenično u naspramnu ruku, po šemi 0, 7. i 21. da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ekspoziciona obavezna imunizacija protiv besnila sprovodi se k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e je ugrizla ili na drugi način ozledila besna ili na besnilo sumnjiva divlja ili domaća životinj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e je ugrizao pas ili mačka nepoznatog vlasnika, koji se ne mogu držati pod desetodnevnim veterinarskim nadzor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e je ugrizao pas ili mačka koji u toku deset dana od dana ozlede pokažu znake besnila, uginu, budu ubijeni ili odlutaju, a besnilo životinje se ne može isključiti laboratorijskim pregled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e koje se moglo zaraziti virusom besnila preko služokože ili oštećene kož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unizacija protiv besnila sprovodi se odmah po utvrđivanju indikacije, davanjem pet pojedinačnih doza vakcine protiv besnila u deltoidni mišić a kod male dece u anterolateralni deo natkolenice, intramuskularno, naizmenično u suprotni ekstremitet, po šemi: 0, 3, 7, 14. i 28. d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tovremeno sa davanjem prve doze vakcine protiv besnila, u svim slučajevima, daje se jednokratno i humani antirabijski imunoglobulin (u daljem tekstu: HRIG) u dozi od 20 I.J. na kilogram telesne m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IG se infiltruje u ranu i oko rane, a ostatak potrebne količine daje se intramuskularno u glutealnu regi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IG se aplikuje u svim slučajevima, bez obzira na vreme proteklo od ekspozicije virusu besni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rebna količina HRIG-a ne sme da se prekorač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tovremeno sa imunizacijom protiv besnila sprovodi se imunizacija protiv tetanusa, u skladu sa ovim pravilniko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ktivna i pasivna imunizacija protiv tetanusa kod povređenih l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unizacija protiv tetanusa kod povređenih lica sprovodi se vakcinisanjem adsorbovanom TT vakcinom i humanim antitetanusnim imunoglobulinom (HTIG) na sledeći nači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a su potpuno vakcinisana i revakcinisana protiv tetanusa za svoj uzrast, a od poslednje doze do povrede j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šlo manje od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deset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godina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 dobijaju ni vakcinu ni HTIG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a su potpuno vakcinisana i revakcinisana protiv tetanusa za svoj uzrast, a od poslednje doze do povrede j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šlo više od deset godina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bijaju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ednu dozu TT vakcine i 250I.J. HTI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dmah po povređivanju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a koja nisu vakcinisana, lica koja su nepotpuno vakcinisana ili nemaju dokaze o imunizaciji protiv tetanusa, dobijaju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četiri doze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 TT vakc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prvu dozu odmah, drugu dozu u razmaku ne kraćem od mesec dana, treću dozu šest meseci nakon druge doze, a revakcinacija se vrši četvrtom dozom, godinu dana nakon treće doz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0,1,6,12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a lica dobijaju i HTIG sa prvom dozom vakcine, odmah po povređivanj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Akutni virusni hepatitis 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Tetan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Besni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e TT i HTIG daju se istovremeno, intramuskularno u suprotni ekstremit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acija protiv trbušnog tifu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na od najstarijih mrtvih vakc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iroku upotrebu stekla prvo u armij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oje: fenolna, alkoholna, formalinska, suva acetonska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je se u dve doze, kao monovakcina ili češće kao kombinovana tifus-tetanus ili tifus-kole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acija protiv trbušnog tifu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k između doza ne manji od 15 dana i ne duži od 3 mese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dinu dana posle vakcinacije vrši se revakcinacija, kao i svake treće dok postoji rizi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ebne kontraindikacije: trudnoća, laktacija, &lt;3 godine i &gt;60 god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485640" y="333360"/>
            <a:ext cx="820116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poručene doze i šema davanja Hepatitis A </a:t>
            </a:r>
            <a:r>
              <a:rPr b="1" lang="sl-SI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c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" name="Group 29"/>
          <p:cNvGrpSpPr/>
          <p:nvPr/>
        </p:nvGrpSpPr>
        <p:grpSpPr>
          <a:xfrm>
            <a:off x="228600" y="1700280"/>
            <a:ext cx="8891640" cy="4629240"/>
            <a:chOff x="228600" y="1700280"/>
            <a:chExt cx="8891640" cy="4629240"/>
          </a:xfrm>
        </p:grpSpPr>
        <p:sp>
          <p:nvSpPr>
            <p:cNvPr id="115" name="Rectangle 2"/>
            <p:cNvSpPr/>
            <p:nvPr/>
          </p:nvSpPr>
          <p:spPr>
            <a:xfrm>
              <a:off x="638280" y="5872320"/>
              <a:ext cx="213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3"/>
            <p:cNvSpPr/>
            <p:nvPr/>
          </p:nvSpPr>
          <p:spPr>
            <a:xfrm>
              <a:off x="3381480" y="58723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350280" y="2671920"/>
              <a:ext cx="11980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35"/>
                  </a:solidFill>
                  <a:latin typeface="Tahoma"/>
                </a:rPr>
                <a:t>Grupa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2355840" y="2671920"/>
              <a:ext cx="1370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35"/>
                  </a:solidFill>
                  <a:latin typeface="Tahoma"/>
                </a:rPr>
                <a:t>Starost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4181400" y="2519280"/>
              <a:ext cx="6494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35"/>
                  </a:solidFill>
                  <a:latin typeface="Tahoma"/>
                </a:rPr>
                <a:t>Br.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3983040" y="2824200"/>
              <a:ext cx="9558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35"/>
                  </a:solidFill>
                  <a:latin typeface="Tahoma"/>
                </a:rPr>
                <a:t>doza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4907160" y="2824200"/>
              <a:ext cx="19098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35"/>
                  </a:solidFill>
                  <a:latin typeface="Tahoma"/>
                </a:rPr>
                <a:t>EL.U.* (ml)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6637680" y="2519280"/>
              <a:ext cx="24825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35"/>
                  </a:solidFill>
                  <a:latin typeface="Tahoma"/>
                </a:rPr>
                <a:t>Šema davanja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7068240" y="2824200"/>
              <a:ext cx="15577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35"/>
                  </a:solidFill>
                  <a:latin typeface="Tahoma"/>
                </a:rPr>
                <a:t>(meseci)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339840" y="3473280"/>
              <a:ext cx="1287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eca i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236520" y="3803760"/>
              <a:ext cx="20847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dolescent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>
              <a:off x="2075400" y="3814920"/>
              <a:ext cx="2158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-18 godina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4330800" y="3814920"/>
              <a:ext cx="384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5126760" y="3817800"/>
              <a:ext cx="1595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60 (0.5)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6940800" y="3814920"/>
              <a:ext cx="16840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0, 1, 6-1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316080" y="4467240"/>
              <a:ext cx="1376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Odrasl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Rectangle 19"/>
            <p:cNvSpPr/>
            <p:nvPr/>
          </p:nvSpPr>
          <p:spPr>
            <a:xfrm>
              <a:off x="2136600" y="4503600"/>
              <a:ext cx="2043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&gt;18 godina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Rectangle 20"/>
            <p:cNvSpPr/>
            <p:nvPr/>
          </p:nvSpPr>
          <p:spPr>
            <a:xfrm>
              <a:off x="4330800" y="4500720"/>
              <a:ext cx="384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4959000" y="4503600"/>
              <a:ext cx="1892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,440 (1.0)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>
              <a:off x="7199280" y="4503600"/>
              <a:ext cx="1293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0, 6-1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Rectangle 23"/>
            <p:cNvSpPr/>
            <p:nvPr/>
          </p:nvSpPr>
          <p:spPr>
            <a:xfrm>
              <a:off x="5278680" y="2522520"/>
              <a:ext cx="9874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35"/>
                  </a:solidFill>
                  <a:latin typeface="Tahoma"/>
                </a:rPr>
                <a:t>Doze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Rectangle 24"/>
            <p:cNvSpPr/>
            <p:nvPr/>
          </p:nvSpPr>
          <p:spPr>
            <a:xfrm>
              <a:off x="6301800" y="1700280"/>
              <a:ext cx="1662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35"/>
                  </a:solidFill>
                  <a:latin typeface="Tahoma"/>
                </a:rPr>
                <a:t>HAVRIX</a:t>
              </a:r>
              <a:r>
                <a:rPr b="1" lang="en-US" sz="2800" spc="-1" strike="noStrike" baseline="30000">
                  <a:solidFill>
                    <a:srgbClr val="ffff35"/>
                  </a:solidFill>
                  <a:latin typeface="Tahoma"/>
                </a:rPr>
                <a:t>â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228600" y="3357720"/>
              <a:ext cx="861048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4038480" y="2268360"/>
              <a:ext cx="480060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28600" y="5567400"/>
              <a:ext cx="868680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28"/>
            <p:cNvSpPr/>
            <p:nvPr/>
          </p:nvSpPr>
          <p:spPr>
            <a:xfrm>
              <a:off x="380160" y="5686560"/>
              <a:ext cx="208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ahoma"/>
                </a:rPr>
                <a:t>*ELISA unit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147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na i pasivna imunizacija protiv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utnog virusnog hepatitisa B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avezna vakcinacija protiv akutnog virusnog hepatitisa B sprovodi se kod svih nevakcinisanih i nepotpuno vakcinisanih lica u zdravstvenim ustanovama, uključujući i učenike i studente zdravstveno-obrazovne struke, koji dolaze u neposredan kontakt sa infektivnim materijalom (krv ili seru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cinacija protiv akutnog virusnog hepatitisa B sprovodi se i k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filičar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lesnika na dijaliz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nih partnera HbsAg pozitivnih lic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štićenika ustanova socijalne zaštit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venskih narkoman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lin zavisnih bolesnika od šećerne bolest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orođenčadi HbsAg pozitivnih majk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kcinacija protiv akutnog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rusnog hepatitisa B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odi se sa tri doze intramuskularnim davanjem HB vakcine po šemi: 0,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i 6. mese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acija lica koja su imala akcident sa infektivnim materijalom i vakcinacija novorođenčadi HbsAg pozitivnih majki sprovodi se sa četiri doze po šem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, 1, 2. i 12. mese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akcinisana i nepotpuno vakcinisana lica koja su imala akcident sa infektivnim materijalom (krv ili serum)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novorođenčad HbsAg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zitivnih majk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avezno se zaštićuju i intramuskularnim davanjem hepatitis B imunoglobulina (HBIG) u količini koju preporučuje proizvođač, odmah po akcidentu odnosno rođenju, a najkasnije do 12 sati od momenta akcidenta, odnosno rođen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BIG se daje istovremeno sa prvom dozom vakcine, u suprotni ekstremit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acija pacijenata pre stupanja na dijalizu sprovodi se sa četiri doze po šemi 0, 1, 2. i 6. meseca davanjem dvostruke doze za određeni uzra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vorođenčad HbsAg pozitivnih majk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orođenčad HbsAg pozitivnih majki obavezno se zaštićuju i intramuskularnim davanjem hepatitis B imunoglobulina (HBIG) u količini koju preporučuje proizvođač, odmah po akcidentu, odnosno rođenju, a najkasnije do 12 sati od momenta akcidenta, odnosno rođen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BIG se daje istovremeno sa prvom dozom vakcine, u suprotni ekstremit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kcinacija pacijenata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pre početka dijali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acijenata pre stupanja na dijalizu sprovodi se sa četiri doze po šemi 0, 1, 2. i 6. meseca davanjem dvostruke doze za određeni uzr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akcinacija se sprovodi u slučajevima imunodefinicije i kod bolesnika na dijalizi, jednom dozom HB vakcine, pet godina posle potpune vakcin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ktivna i pasivna imunizacij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iv besni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na imunizacija protiv besnila sprovodi se savremenim inaktivisanim vakcinama protiv besnila za humanu upotrebu, proizvedenim na kulturi ćelija koje preporučuje SZO, sa potencijom od najmanje 2.5 I.J. po pojedinačnoj doz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sivna imunizacija protiv besnila sprovodi se primenom humanog antirabičkog imunoglobuli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9:12:04Z</dcterms:created>
  <dc:creator>Intel</dc:creator>
  <dc:description/>
  <dc:language>en-US</dc:language>
  <cp:lastModifiedBy>Natasa Rancic</cp:lastModifiedBy>
  <dcterms:modified xsi:type="dcterms:W3CDTF">2016-11-09T11:48:05Z</dcterms:modified>
  <cp:revision>12</cp:revision>
  <dc:subject/>
  <dc:title>Obavezna imunizacija lica eksponiranih određenim zaraznim bolestim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